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91E-6D97-422F-80F4-054A5109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ABE-C36B-4B3E-AEB6-20E0DFA9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B1B-9497-4607-8781-6D0615E1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B9B1-6581-4CFC-9EA0-A24F729D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F5CB-9943-4F78-8013-4B6A5466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4423-D760-43A8-A4CC-B5F5BABC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22E8-6A28-4781-AD1A-FED79E99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71E3-C936-4B89-B082-94DCC914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0031-0E46-4396-B67C-8F117630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99C6-C004-48CF-AA31-0181872B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9EC6-BA0C-4127-A494-2794680C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7D7B-2C04-4C36-A37B-86DF9EA4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23F0-783E-4958-BD53-E3051984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4E77-3C8D-403A-A73D-0DDBE1C7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7D1C-5CE1-4BC6-9BCD-2FBC831E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6FA5-A109-4E82-A779-8D6286C7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E5EE-CA2C-46E5-8ABB-407A0658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BED-49A8-4E55-8784-0151F7FE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3C0D-C559-4678-BC88-48E7F660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5E12-99F9-40AA-9876-53C0EB89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8A9-8CF5-4BA9-8C47-C31294AF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153-6943-4A86-B60E-13938B86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316C-B195-4874-A15A-170A348F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210A-8159-43AC-91D9-8474E847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105F-5353-432E-BED3-39DD6B2499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C2F6-8276-4687-97E5-7A8E91D075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pter 8 - Ionic Compoun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133720"/>
            <a:ext cx="78487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emical Bo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 force that holds two atoms toget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action between a positive nucleus a negativ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action between positive and negative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rmation of 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 form positive ions (Cations) by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lectrons to attain a noble gas electron configu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2743200"/>
            <a:ext cx="243864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:  1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208944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724280" y="2743200"/>
            <a:ext cx="2895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24280" y="4572000"/>
            <a:ext cx="2575080" cy="2819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00600" y="4572000"/>
            <a:ext cx="2895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43480" y="462276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2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5041800"/>
            <a:ext cx="0" cy="82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65760" y="5867280"/>
            <a:ext cx="444600" cy="432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21360" y="603252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: 1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5270400" y="4673520"/>
            <a:ext cx="2575080" cy="2489400"/>
            <a:chOff x="5270400" y="4673520"/>
            <a:chExt cx="2575080" cy="248940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5270400" y="4673520"/>
              <a:ext cx="2575080" cy="24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311880" y="5816880"/>
              <a:ext cx="444600" cy="3812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rmation of 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metals form negative ions (anions) by gaining electrons to attain a noble gas electron configu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2705040"/>
            <a:ext cx="24382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  1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648320"/>
            <a:ext cx="2895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270400" y="2908440"/>
            <a:ext cx="2403720" cy="2628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57800" y="2743200"/>
            <a:ext cx="3124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12160" y="595620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: 1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45338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35440" y="5029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onic Bond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rostatic force that holds oppositely charged particles together in an ionic compound is referred to as 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87520" y="3170160"/>
            <a:ext cx="399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6440" y="411480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         +          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343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9280" y="41148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Li ]     +     [  Br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60160" y="41148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562000" y="4114800"/>
            <a:ext cx="75960" cy="76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435640" y="4114800"/>
            <a:ext cx="76320" cy="76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674680" y="4203720"/>
            <a:ext cx="75960" cy="76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82600" y="4330800"/>
            <a:ext cx="75960" cy="75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560920" y="4403880"/>
            <a:ext cx="76320" cy="75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333400" y="4243320"/>
            <a:ext cx="75960" cy="76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446080" y="4410000"/>
            <a:ext cx="75960" cy="76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333400" y="4349880"/>
            <a:ext cx="75960" cy="75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813280" y="4087800"/>
            <a:ext cx="142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95440" y="5537160"/>
            <a:ext cx="32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22880" y="3890880"/>
            <a:ext cx="3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1960" y="5173560"/>
            <a:ext cx="798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number of electrons lost from a metal must equal the number of electrons gained by a nonme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perties of Ionic Compoun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stalline so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melt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boil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 of ionic compounds conduct electricit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electroly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ion of ionic bonds is always exother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59280" y="1744560"/>
            <a:ext cx="225900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onic Compounds Specif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6204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mplest ratio of ions represented in an ionic compound is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mula un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xidation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 oxidation state) is equal to the charge of an 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yatomic anion that contains one or more oxygen atom is called 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xyan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tallic Bonds (Electron Sea Model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8480" y="1065240"/>
            <a:ext cx="7666200" cy="4648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nce electrons from each metal atom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ocalized and move easily from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perties of Met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ately high melting points and high boiling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 are malleable and du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ly moving electrons in metals explain why metals are good conductors of heat and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tal Alloy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4240" y="1308240"/>
            <a:ext cx="76374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mogeneous mixture of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2960" y="2394000"/>
            <a:ext cx="485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4200" y="1898640"/>
            <a:ext cx="8004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per (67-90%), Zinc (10-33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n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per (70-95%), Zinc (1-25%), Tin (1-18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d, 10 Car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d (42%), Silver (10-20%), Lead (0-1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w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inless St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6680" y="3637080"/>
            <a:ext cx="47527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toms of similar 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substiute.gif (11610 bytes)"/>
          <p:cNvPicPr/>
          <p:nvPr/>
        </p:nvPicPr>
        <p:blipFill>
          <a:blip r:embed="rId1"/>
          <a:stretch/>
        </p:blipFill>
        <p:spPr>
          <a:xfrm>
            <a:off x="771480" y="4438800"/>
            <a:ext cx="2619360" cy="1942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946760" y="3670200"/>
            <a:ext cx="39178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sti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toms of different 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inter.gif (11150 bytes)"/>
          <p:cNvPicPr/>
          <p:nvPr/>
        </p:nvPicPr>
        <p:blipFill>
          <a:blip r:embed="rId2"/>
          <a:stretch/>
        </p:blipFill>
        <p:spPr>
          <a:xfrm>
            <a:off x="4959360" y="4626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1:55:07Z</dcterms:created>
  <dc:creator>Dawn Pav</dc:creator>
  <dc:description/>
  <dc:language>en-US</dc:language>
  <cp:lastModifiedBy>udsd</cp:lastModifiedBy>
  <dcterms:modified xsi:type="dcterms:W3CDTF">2009-02-09T19:05:00Z</dcterms:modified>
  <cp:revision>7</cp:revision>
  <dc:subject/>
  <dc:title>Chapter 8 - Ionic Compounds</dc:title>
</cp:coreProperties>
</file>